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6EB4E-E829-415C-B07B-EC40EE6F4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16F39-2F83-4C5D-878E-065B8A66A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967FA-40B7-4BE0-8F40-E5C920318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94A90-9AAE-4BF7-BF6A-139DF1B8A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71FB6-F21A-404E-924E-99C12E05B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071E5-8302-4A48-B1CE-B0B3742C3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0F6D4-24EF-466D-9888-782E77D70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900BB-AAA2-47B9-A5FA-38AAC8D98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12B7C-C56C-4AFF-94FB-466649CE0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C77B1-C9D3-4A95-9E12-91A3302FE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4672F-4C5C-4AC2-8626-555EFC23E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5D29D-C63E-4C4C-AC9F-DDE059184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3B9F9-0B70-4A62-925C-70F9F8A10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18054-34F8-4101-964D-2331FDA7D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A0B7D-0CB3-4F16-A4F6-C3DF98CAB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B9FC5-91FC-4078-8646-DA53E2E6E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15E50-726D-4DFB-ABE5-C936B82A6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27131-E9B4-434D-AD6C-6CA2E66F9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2CBE1-1120-47F8-BFE7-80A1BEC3C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4B19B-41AC-499D-9B1E-228CBE837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806BC-4D87-4191-B701-1C1913D82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4533D-E5F8-4642-BB19-0DABF64F8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15679-B856-420F-B9B2-DA9422A49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7BC0B-CD2F-4DD8-99C4-7C6F21E0C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E4150-E3E7-41C2-8D31-ED5804C34D74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895480"/>
            <a:ext cx="85928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4124160"/>
            <a:ext cx="767700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25207-6851-40F3-9C1C-EC466F19BB32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9120" y="2418840"/>
            <a:ext cx="85932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제 </a:t>
            </a:r>
            <a:r>
              <a:rPr b="0" lang="en-US" sz="4400" spc="-1" strike="noStrike">
                <a:solidFill>
                  <a:srgbClr val="a3007c"/>
                </a:solidFill>
                <a:latin typeface="굴림"/>
                <a:ea typeface="굴림"/>
              </a:rPr>
              <a:t>1</a:t>
            </a: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장 특수교육학의 </a:t>
            </a:r>
            <a:br>
              <a:rPr sz="4400"/>
            </a:b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개요와 발전과제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11000" y="4362480"/>
            <a:ext cx="7677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66560" y="1339920"/>
            <a:ext cx="8226720" cy="517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이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의 목표와 목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의 대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시각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청각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신지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지체부자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서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언어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학습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 대상자 출현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특수교육의 개념과 과정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특수교육 기관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조기 특수교육 기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학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학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학습 도움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기숙제 학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병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가정 및 복지시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특수교육 과정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아동 찾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선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사정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(assess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개별화 교육계획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(Individualized Education Plan: IE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배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교수 학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수행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형성 및 총괄 평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서양의 특수교육 역사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고대와 중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장애인에 대한 편견의 시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근세 초기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장애인의 보호와 교육의 시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말 –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특수아를 위한 학교 교육의 성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청각장애교육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계 최초의 농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프랑스 파리 농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176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독일의 세계 최초의 공립 농학교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77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영국의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Braidwood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가 농교육에 기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미국의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Gallaudet: 181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에 미국에 최초의 농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시각장애교육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계 최초의 시각장애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1784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파리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영국에는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79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독일에는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0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정신지체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Itard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Seguin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의 공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 Seguin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이 미국에서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Howe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협력하여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4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에 정신지체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체부자유 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1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후반 정형외과학의 발달과 관련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; 1832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독일에서 지체부자유 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특수교육의 질적 변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한국의  특수교육 역사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삼국시대에서 조선시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빈민규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고려 숙종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복업과 궁중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조선시대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명통사에서 경문 집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개화기 및 일제시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유길준의 서유견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서양식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근대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특수교육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R. S. Hall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여사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894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제생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912)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교육과 수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박두성의 훈맹정음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929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35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이창호 목사에 의한 평양 광명 맹아학교 설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맹인 손용수는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38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에 원산 맹학교 설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해방이후부터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7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대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47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서울맹아학교 교장 윤백원에 의해 한글 지문자 제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49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특수학교 설립과 특수학급 설치에 관한 규정 공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77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특수교육진흥법 제정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1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회 개정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8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대 이후의 특수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특수교육의 최근 동향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정상화 원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교수의 개별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조기교육과 전환교육의 강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부모의 권익 강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중도 중복장애 교육의 강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a3007c"/>
                </a:solidFill>
                <a:latin typeface="Arial"/>
                <a:ea typeface="굴림"/>
              </a:rPr>
              <a:t>질문할 시간입니다</a:t>
            </a:r>
            <a:r>
              <a:rPr b="0" lang="en-US" sz="4000" spc="-1" strike="noStrike">
                <a:solidFill>
                  <a:srgbClr val="a3007c"/>
                </a:solidFill>
                <a:latin typeface="Arial"/>
                <a:ea typeface="굴림"/>
              </a:rPr>
              <a:t>.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2049480" y="1195560"/>
            <a:ext cx="561672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8T03:17:31Z</dcterms:created>
  <dc:creator/>
  <dc:description/>
  <dc:language>en-US</dc:language>
  <cp:lastModifiedBy>f</cp:lastModifiedBy>
  <dcterms:modified xsi:type="dcterms:W3CDTF">2007-04-05T02:32:51Z</dcterms:modified>
  <cp:revision>10</cp:revision>
  <dc:subject/>
  <dc:title>제 1장 교육과정과 교수학습</dc:title>
</cp:coreProperties>
</file>